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840-F6F9-41DF-9352-21A65D9A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56B-7FC8-40A6-B00E-CF36890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FECB-142D-4E97-9356-0503709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D17F-6A92-4A12-BE5B-E8FE404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2F3E-A152-4174-A361-0C00D45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526E-C69A-4D58-ACBC-6A31578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03090-C0BF-482B-B269-B2CE242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61D84-1C5E-43F5-8673-A1BAC9F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3EB80-84C8-4CBE-9CFC-9EF256B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148CB-0D2E-4E9B-AA42-24C89E10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39AAC-0458-4470-B41F-6E88E507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A18D-2FEF-4774-AE5A-73B46ED5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151-E2D7-4675-AC5A-8C3CF6F9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8CAA0-B96E-4BA5-9ED0-1FCB08F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6ECBC-D9A4-4E32-8FA9-7FAF228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8C687-9A9F-4C24-B284-2CF7324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22F60-4B9A-43A3-9847-0A50999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214BD-1E9C-4567-8E1D-CD8095C6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5F99A-E9B7-4418-8AA5-8B2CDFF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CE479-060B-4F9B-81EA-7C76FEB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11C4C-2654-44BE-B758-2C1ED35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528ED-332A-4170-A49D-3CD18BE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587BB-81BC-4DC4-A0C6-103BB8C4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072-C9BE-4CA5-BDE2-092B4ACE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C619F-5756-4E50-9B72-12791011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D5C3E-890B-4BBA-B60E-7141EC76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76B71-C156-4798-9A97-23A0CB7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3BDF-84E0-410C-9F3D-78DE94A3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60A0A-D5BF-4AE6-AE6E-B35FF0F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D3BBE-33FE-4149-A5A3-BAE7C4F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9772-4036-4155-8CDB-91362ED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34CC-403E-4B21-8A32-C274671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469D3-13B0-4AF8-A38F-2D5F32D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2C399-A53C-466D-B42F-A936B92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7952-65A5-436D-9337-88A11CDC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702C2-AA05-4237-A2E6-28AFEB30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9C91-7F17-4C7C-B338-7CEAB06C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7AFE5-E904-4514-BA9B-DA504952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38DA-4499-4765-9BA4-0F591427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635C2-C6D3-4804-B841-0092558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28B48-4370-4EE1-9246-AED0F7B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395BE-F261-43F9-A316-4E09A1E1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58638-FE2F-4A87-9F70-61ACD347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5223E-8507-4D7E-A7BC-AFD9C07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02458-4B3F-47A3-A5FB-370CC8B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ED1-78D3-476E-9CE7-F26E9DD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F92B-1025-4709-961B-81EAE39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E96FE-B317-4B08-8EDB-8281988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E7D4F-1AEB-4313-B49D-DBB9935E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5248-40F3-4B8B-9BA3-97842FFA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892E8-F00A-4BEA-8351-6618DE50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C4FC2-EF22-45EE-88D8-2B30F240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8D1D9-B5DD-4186-BFA9-B236BC6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39D42-6BB7-409F-9BE8-3904E30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BB9E4-4CBA-47A5-9B0D-4D0B6639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72EC9-3E04-4334-B36D-E1120C47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AB99-F923-4B64-A4E5-0F24CBA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BBF3D-0519-4962-A91E-D6AF346C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CE5AC-42E1-46A6-B882-4EC3252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EF65F-DBA8-4973-9C30-F8078A8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1C900-B198-4898-B988-2EE1B6B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46097-45EB-4827-9D3D-35291E19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32E26-2575-46D4-A4D5-C30BE50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F8F7C-EDB7-4606-A03F-9FF9B8F0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CF274-CFBD-4C07-ACDB-A5DD8C11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98D3D-5126-40C8-8D57-8C9EB2F2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A75E2-22FC-483A-845C-2C10754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D61-BAFB-424F-BB8B-97B554F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992BE-812C-4840-A90C-266C8C0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776B9-AB00-4AE4-A740-83CD93F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5A337-67E0-42DA-9C36-1B7A7192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73CDC-613D-4A94-9831-A53AAB7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A345F-782C-4014-AD11-A896BFD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60BB8-46BB-43C9-AA88-57E31D4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A5F53-9D01-401E-B55C-17C71B6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AB792-7D0E-468E-B0C2-6E9EA7AC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18832-9404-4342-B650-EC708938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E69C1-82F8-43F7-8059-9D7D9CEA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DBB3-B2EF-4D75-A29B-3B53805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A5057-665D-46CE-BDD6-D632192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C2602-FBCC-4AE6-B384-B03523C7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A96EB-6BE1-4EDB-811A-6260EC84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3ADDC-8829-445D-BC5A-D60E1CD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3B686-4A36-4BD0-9CED-0F6676D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B1AB3-687D-4D89-8282-DD8410F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38D27-5FE1-41AE-B58E-3851E6C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DF332-558E-4B8D-97FE-6C066E4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E9571-E23D-4254-A3F4-4D0081D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CB06D-F2E3-4726-B704-B5DF421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BACB-60DC-449B-B73E-238EAC4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2D5A1-5698-4FE5-BC27-A856B1AF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154A3-23FF-4CF5-AD55-86E8F0DD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9A19F-A8E2-4BC3-AB18-318A5172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28941-E754-4F9B-9BFE-EAC4ACD8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B7667-1EB8-4914-98BA-48F9B77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9A561-92E1-4320-BD7E-0EAA854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8C06A-1D25-43A8-8665-DEDAD941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127F1-2CDC-43C8-8B42-02A5A74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78F85-6E49-408E-A115-929EABB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55A1E-627C-4A02-8115-34A6069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693-9C7F-48ED-AB89-9079F04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6D003-C099-4073-B791-0C749F3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58814-2378-4987-98BD-8FE013B0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E0F4A-BA0A-40CB-B266-2E0121B3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8FF87-A54E-4A65-B983-409BA37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CD1AC-4A70-4EC3-8F72-DF58A38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B3E5E-2AC6-42EF-8557-B1BF8E7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510A5-A009-4725-A70A-4167DF0B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2B00E-B004-4268-96DB-2563F70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50346-5641-481F-985B-CBC27F0D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700F6-8BCF-4933-9139-82D5B5B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798-CE1C-4908-AA49-851DD05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0DEC-B102-4E8C-AE73-C6FF2A0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0B3B8-4F65-44FB-8A2E-D66A6F8E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C3708-D697-421F-BC8E-48F9DAB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57AAA-4DFB-46A4-A419-B958DDC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6FA66-24F6-43CC-9C1F-AEB52934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E92AE-BCF2-4DF2-91DB-EFBC0751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4C9D4-7076-47BE-8918-A4881E97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FD489-7380-4B31-8AF9-AAA9198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4EC66-1B93-4D84-96F5-2E397356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3994A9-0E86-453A-B6E1-EB68814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E3131-51A0-49A2-AFD6-744A593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0201-BF29-4A2F-B11A-DD3EA52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E57EC-7292-4C52-9BFA-72FFDF4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D1E30-A58E-4CD2-848B-942496E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496F4-8AF9-45F1-8E47-BEBC6EF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14EF8-BAF2-41B0-BDCC-4F106B3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870F2-DD41-4418-8180-1A1E36AD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17CAD-DFC2-4FBF-A5A4-2EEFC897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2BF2D-723E-41D3-9492-6745737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DEB7C-7A7D-4628-B7DF-839B0192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21D3F-FEB8-4246-950D-29F9E36A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8FE2E-7881-4920-A522-17D6D5E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D71B-341E-4024-B590-8D07136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D3B3B-B54D-4F55-951D-A407EA2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160CD-A814-48C6-8C87-B3D3818B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0BBDD-B205-480E-80EF-DFCE3AC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4B303-7693-407F-B15B-DC7FC83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F2413-E83E-489E-8BD9-DD93096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17BA2-A980-4125-A4A3-BDAB870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8935E-6043-468D-99B2-D95DC35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13781-9880-4CAC-84D8-5591B1DA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DB461-4202-4057-B050-50C91C74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E33F9-79E0-435E-9AF2-26FFFC16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B419-0602-4217-989F-F95F4911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D22EB-E96D-4924-AA00-DCE0A21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BC907-175F-4F82-A32C-551C293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AF0DD-B22F-4010-B93E-425D89B1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3FFC3-B2E9-4E0D-A396-5E6A7FF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7F2F2-0B6D-4E4C-9559-41A3525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79B6E-41DD-4CC4-BD91-3D8E9CA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37D4F-A8D4-4868-97A0-104A3F4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FA734-C61D-4AB1-B5A6-1FE018E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9FED0-2C18-41EF-B145-A4FCCF5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4E912-249F-4B6F-9753-D986D83A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586-142A-4498-959A-F9DFF2A9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163FC-4D8A-403A-968C-FB2374D6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A00EB-48A9-465D-B4BD-1A0FB79F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517DB-B692-40BC-8625-B95F46E8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9EBE9-1116-4C5D-9652-0781F6F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B1ED3-BD73-4A31-8226-21C789C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C0282-378E-416A-90FC-595C664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49BA4-4296-44F8-9B98-5EC24EBF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25349-D82E-4E70-97E7-768A323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D008F-3460-44A3-9529-5326462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1702A-7894-4029-A207-C6225D7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35A5-59EA-4642-A263-44E9B9CB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0B74D-5498-48B3-937D-04151A9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CBB78-82D4-47BC-93E7-76A31A30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983C0-64AD-4CA4-9C4D-6BEF815A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AFA2-6783-4645-9B4E-8B954445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9427-C6E7-41A7-9094-0111C81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2145-FAC7-485E-8C45-0AE369EF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A3D9-E330-4A33-8CE3-896855E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400-CAD2-4B7D-B289-4352A43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A67B-C2B2-4537-9EA7-50EE3064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0C6B-9F0A-4D07-8D35-83A633A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41DF-C902-4D43-9264-3FEB281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3AE9-F908-42FB-B4B7-ACFAE5C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0BCD-9C9E-4699-82C8-221CC059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C965-AADD-41FD-94BF-9D514958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05B1-713C-42DE-94ED-E933B10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6D5F-EF37-4C3E-8F2E-FBE6D36D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5F36-A54F-4661-B51B-80AB5F5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CD5F-2509-4CEE-BB3F-18578CE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E72-71A9-49B7-BC64-B47A364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1A95-2121-4548-9F85-9B57625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CB9B-0F7C-4857-9A07-A31B0C93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162C-C4BC-4006-A31C-2C211AC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E3F4-0B81-4AF6-8E7E-A1D1EC6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55BC-3CAE-4857-934E-B3DB0F1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7879-DD39-4EB8-BE68-4C8EF7E3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997A-F12C-4E67-B632-B157EFE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34BB-5EA8-4318-BF4C-596CD72C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90F1-9B53-4337-85B0-8618DE98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4AA6-B2FC-4CDC-AD2C-03CEDC1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E2A-B2C8-47F1-8807-AED9DB6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8184-0532-4086-8EB6-9FFEFD2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B2E6-67B8-415B-BE9A-9C14A15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815C-BAF3-415B-A677-61E09046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6064-35EE-4199-8283-49ED29E4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D89E-3265-400E-934B-1E8FBE5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DC6B-60E0-4335-AB2B-35E425E3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00FC-0138-4A05-A357-1A61ABA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2C26-068B-4E8A-8C10-1A4B9235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950D-E23D-4F5C-A328-629865E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F73B-CA3B-4680-A698-5BF7D7CA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207-7BB7-4378-A2F7-5CB5724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DACB-965E-432C-A35F-4EBF481B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E1DF4-87BB-4ECC-9607-E531AF16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C5248-82DD-4C68-814C-A17FF4DD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D888-1777-4758-A59C-9A235C8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8C4B-341E-45AA-8E48-7CC9DAD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ED0F-96BE-4D88-9FC9-E3A6C54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7430-DA26-4743-BA2D-917A9AA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C2CD-F6F7-4F13-A1E7-1EDF98D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4B8D-7941-4D47-8908-7350FFB4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B347-E444-4759-A960-95D8A12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49D-D5C4-45C6-8802-7496600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E6CA-A849-4866-8C13-CBD37B4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A210-E928-4FAB-A4EC-7B0CF397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E6E32-B6CB-472F-82E4-7AE8A2C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91E6-14BF-4B3C-9A54-A7455D77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633C2-1E4E-4069-841F-440A405E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9222-E662-48E9-8A46-5991241B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F789-D04A-4F89-B8DE-5BB6BCE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217FC-A982-40BD-81F0-A1BC6DE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84C9-9B21-412A-AC02-45501B2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1A9C-72C1-45BF-A662-2EFF38B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DF-1A18-4734-9C91-BB8F920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2153-D2DE-4EE0-B387-5457902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E8E2-7185-4BBB-B86E-00B30DB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2F97-4AF5-4927-8D58-A5628654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FA97-A62E-4E6F-A145-F16B3BEA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25D0-F6AA-4AE7-A9DD-0D361358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30E6-D9E5-471E-AE0D-0D594119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CC09-AF83-43FA-90E7-2B466B2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D54C4-36E8-4AD2-ACE2-5611564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72190-97ED-4F97-B804-79B3779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122F-9EF1-43B0-B84D-B85EB7D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F7F-4B95-4845-8276-4D93CF9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8F1E-4644-4C27-AE56-B745733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3E66-D2EF-4AB4-81DB-8581F04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CCD71-532A-46EC-8400-DF38B70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BC92-F3CF-4E17-8FFE-4E94CDE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0E32D-EB59-430D-AF58-89ABE1F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AC54-AFAE-47E4-9807-B3A349A2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FB882-96C1-4FC6-9B70-FE2C48FE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EA182-CC49-4569-A557-917D6A9F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81962-A367-49AE-AE2E-E62EE67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E2FE7-5699-4362-8501-C827CF77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4144-85A2-4A02-ACF6-468767C4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E16-C17D-48A9-983B-659718FD9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2976-C31B-40C2-B05B-61FA0EEEA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D9B-6683-452F-9607-341529015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D49-83B5-4C72-A43A-007160D97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A88A-85B0-4E88-AD84-7131E927E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9052-862A-4618-B971-08AA3B8E3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C7B-A122-4686-96B8-00DB5C89A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1E0A-BE0E-4E52-A051-C40BB44E0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82FA-CB42-4E1F-8E9E-6544858C6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E1D-C72C-4A4B-A502-2B80D8914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D805-8927-4D7C-BBA9-BD922235C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010-B43E-4C38-A9C9-38122B936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DED-7E8D-461D-8750-BD9C6D7DE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214-DC58-40CE-BF69-5B9A54DF8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F4D-7CC5-49C3-8227-E93506A60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44B-288B-461A-915B-358DF6164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217-1886-4F1D-BB4C-185D502C5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2A9-7823-4529-8057-DA17F6927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6853-6B14-4AE4-9F50-972DCE313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28FD-D137-4594-A724-EBF53C0A5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31C9-246D-4E99-B281-71B7BDB85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123B-17CB-4C34-8893-16DEC7546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C7BB-40C2-4B4B-BEEB-3D950616D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A11-2F01-491A-BB5A-D70F61CAD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F6D-04CB-48A7-94BB-9218C92B1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CEE-5732-435F-A07E-643FCC4FC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7A88-9553-4F9B-80A1-BC2B9A3BA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C96-95D4-4EEA-968D-D878429EF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7344-C818-42F2-8C0F-B5EBB4E85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0E44-71D5-4790-85BD-D3D7C507B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5A1-996B-42EB-BF2E-095ED22AD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3914-4F59-4425-8135-9310CA2B07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64ED-2CCB-4352-A398-D6F092EE4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350-9901-496B-8B3D-9478A746C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A9D2-57E4-483F-9361-B65835C13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16F-52FB-4304-B960-2D6FBE2A8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F27-C922-48A7-AC2F-3517672D6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50B-7638-449A-BD8E-B2027BE30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D85-F5A1-4971-B239-0BB8D9731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343160" y="3166920"/>
            <a:ext cx="64576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511280" y="78408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" descr=""/>
          <p:cNvPicPr/>
          <p:nvPr/>
        </p:nvPicPr>
        <p:blipFill>
          <a:blip r:embed="rId2"/>
          <a:stretch/>
        </p:blipFill>
        <p:spPr>
          <a:xfrm>
            <a:off x="343080" y="1407960"/>
            <a:ext cx="8458200" cy="5239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7929720" y="135720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1643040" y="1940040"/>
            <a:ext cx="19288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625320" y="982800"/>
            <a:ext cx="7894800" cy="5437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6000840" y="1500120"/>
            <a:ext cx="1571400" cy="4050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6357960" y="2071800"/>
            <a:ext cx="2214720" cy="4046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1071720" y="264312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6215040" y="2643120"/>
            <a:ext cx="2071800" cy="405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6"/>
          <a:stretch/>
        </p:blipFill>
        <p:spPr>
          <a:xfrm>
            <a:off x="1143000" y="3203640"/>
            <a:ext cx="7429680" cy="403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7"/>
          <a:stretch/>
        </p:blipFill>
        <p:spPr>
          <a:xfrm>
            <a:off x="1214280" y="3738600"/>
            <a:ext cx="5286600" cy="404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8"/>
          <a:stretch/>
        </p:blipFill>
        <p:spPr>
          <a:xfrm>
            <a:off x="7429680" y="428616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9"/>
          <a:stretch/>
        </p:blipFill>
        <p:spPr>
          <a:xfrm>
            <a:off x="5429160" y="5392800"/>
            <a:ext cx="1643040" cy="4046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0"/>
          <a:stretch/>
        </p:blipFill>
        <p:spPr>
          <a:xfrm>
            <a:off x="4714920" y="5929200"/>
            <a:ext cx="30718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349200" y="763560"/>
            <a:ext cx="8447040" cy="601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286000" y="1285920"/>
            <a:ext cx="6572160" cy="4046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1428840" y="1857240"/>
            <a:ext cx="2000160" cy="4050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4"/>
          <a:stretch/>
        </p:blipFill>
        <p:spPr>
          <a:xfrm>
            <a:off x="2571840" y="4714920"/>
            <a:ext cx="19288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852480" y="952560"/>
            <a:ext cx="7439040" cy="5627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50920" y="9288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50920" y="15001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50920" y="20718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50920" y="257184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6"/>
          <a:stretch/>
        </p:blipFill>
        <p:spPr>
          <a:xfrm>
            <a:off x="250920" y="314316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7"/>
          <a:stretch/>
        </p:blipFill>
        <p:spPr>
          <a:xfrm>
            <a:off x="250920" y="3760920"/>
            <a:ext cx="8772480" cy="7286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8"/>
          <a:stretch/>
        </p:blipFill>
        <p:spPr>
          <a:xfrm>
            <a:off x="250920" y="467676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9"/>
          <a:stretch/>
        </p:blipFill>
        <p:spPr>
          <a:xfrm>
            <a:off x="250920" y="5224320"/>
            <a:ext cx="8772480" cy="419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10"/>
          <a:stretch/>
        </p:blipFill>
        <p:spPr>
          <a:xfrm>
            <a:off x="250920" y="5810400"/>
            <a:ext cx="87724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909720" y="949320"/>
            <a:ext cx="7477200" cy="17146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2"/>
          <a:stretch/>
        </p:blipFill>
        <p:spPr>
          <a:xfrm>
            <a:off x="250920" y="92880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3"/>
          <a:stretch/>
        </p:blipFill>
        <p:spPr>
          <a:xfrm>
            <a:off x="250920" y="1500120"/>
            <a:ext cx="8772480" cy="419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8772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58760" y="692280"/>
            <a:ext cx="8877240" cy="60674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429000" y="2357280"/>
            <a:ext cx="649440" cy="330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6000840" y="2357280"/>
            <a:ext cx="649080" cy="330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000680" y="285768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4000680" y="335772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3571920" y="3905280"/>
            <a:ext cx="1000080" cy="330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5214960" y="5595840"/>
            <a:ext cx="928800" cy="330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1000080" y="63579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8001000" y="6357960"/>
            <a:ext cx="64944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142920" y="895320"/>
            <a:ext cx="8858160" cy="5067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4143240" y="833400"/>
            <a:ext cx="1285920" cy="330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928800" y="1595520"/>
            <a:ext cx="857160" cy="330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4071960" y="159552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8329680" y="4124160"/>
            <a:ext cx="3855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152280" y="901800"/>
            <a:ext cx="8839440" cy="5695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8388360" y="128592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8388360" y="328608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8388360" y="4040280"/>
            <a:ext cx="3859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39840" y="1015920"/>
            <a:ext cx="8466120" cy="5457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7929720" y="10000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7905600" y="54864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85920" y="2090880"/>
            <a:ext cx="8370720" cy="26762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7929720" y="20574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28680" y="779400"/>
            <a:ext cx="8485200" cy="602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7858080" y="7142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333360" y="1528920"/>
            <a:ext cx="8477280" cy="3800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3714840" y="38577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366840" y="812880"/>
            <a:ext cx="8408880" cy="5962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4286160" y="2428920"/>
            <a:ext cx="857520" cy="4046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3262320" y="2989440"/>
            <a:ext cx="857160" cy="403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4"/>
          <a:stretch/>
        </p:blipFill>
        <p:spPr>
          <a:xfrm>
            <a:off x="7572240" y="350028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5"/>
          <a:stretch/>
        </p:blipFill>
        <p:spPr>
          <a:xfrm>
            <a:off x="4643280" y="5749920"/>
            <a:ext cx="1214640" cy="404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6"/>
          <a:stretch/>
        </p:blipFill>
        <p:spPr>
          <a:xfrm>
            <a:off x="2928960" y="6286680"/>
            <a:ext cx="8571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1:5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